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AB8-6126-420A-93C4-C3E878D6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9E2-BD58-4752-9AE0-4FA199F3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F16-1EED-4EA9-9A0C-35C0243C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B14-054C-4F47-AB4F-BF6EC602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84F-8491-465F-A008-827B2599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A04-A8FB-4641-97A6-C62FD01A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FF3-E64C-4F2F-A696-D855162F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813-F633-40FA-9E5A-3F27246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EE3-703F-4352-89CA-6881742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D15-48AC-445B-90F8-CB69555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89F-F95D-49E8-AB69-8E937BA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FB3-A8B0-4744-A7D6-5B19530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FF81-05BE-443E-BDD3-9AC4BB42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Исусе, Спасител,</a:t>
            </a:r>
            <a:br>
              <a:rPr sz="7200"/>
            </a:b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кой е подобен на Теб? Всеки ден всичко във мен ще хвали чудесата Ти.</a:t>
            </a:r>
            <a:r>
              <a:rPr b="1" lang="bg-BG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Утеха, закрила, силна опора Си Ти.</a:t>
            </a:r>
            <a:br>
              <a:rPr sz="7200"/>
            </a:b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С всеки мой дъх, о, Господи, ще славя Твоята любов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Нека да пее земята хвала, слава и почит на Бога Отца, хълмове падат, морета бучат пред звука на името Т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Пея със радост за Твойте дела, щастлив съм да Ти подаря любовта. Няма подобен на Тебе в този св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Исусе, Спасител,</a:t>
            </a:r>
            <a:br>
              <a:rPr sz="7200"/>
            </a:b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кой е подобен на Теб? Всеки ден всичко във мен ще хвали чудесата Ти.</a:t>
            </a:r>
            <a:r>
              <a:rPr b="1" lang="bg-BG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Утеха, закрила, силна опора Си Ти.</a:t>
            </a:r>
            <a:br>
              <a:rPr sz="7200"/>
            </a:b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С всеки мой дъх, о, Господи, ще славя Твоята любов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Нека да пее земята хвала, слава и почит на Бога Отца, хълмове падат, морета бучат пред звука на името Т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3300"/>
                </a:solidFill>
                <a:latin typeface="Monotype Corsiva"/>
              </a:rPr>
              <a:t>Пея със радост за Твойте дела, щастлив съм да Ти подаря любовта. Няма подобен на Тебе в този св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0:53:38Z</dcterms:created>
  <dc:creator>TrifonTrifonow</dc:creator>
  <dc:description/>
  <dc:language>en-US</dc:language>
  <cp:lastModifiedBy>TrifonTrifonow</cp:lastModifiedBy>
  <dcterms:modified xsi:type="dcterms:W3CDTF">2005-09-11T21:26:53Z</dcterms:modified>
  <cp:revision>2</cp:revision>
  <dc:subject/>
  <dc:title>Исусе, Спасител, кой е подобен на Теб? Всеки ден всичко във мен ще хвали чудесата Ти. </dc:title>
</cp:coreProperties>
</file>